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ustralia: A mock-up of the type of logo-free cigarette pack that the Australian health department plans to be the only legal packaging by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World: One of the striking posters created by the World Health Organization for World No Tobacco Day on 31 May 20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auritius: a BAT executive as she appeared in posters and leaflets encouraging women to go into poli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onrad Jamrosik as Odds-on Kon the bookmaker, demonstrating the relative risks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ob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9(3):175-1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y 25,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stralia: A mock-up of the type of logo-free cigarette pack that the Australian health department plans to be the only legal packaging by 201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81000" y="1079640"/>
            <a:ext cx="812484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810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MJ Publishing Group Ltd Tob Control 2010;19:175-1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orld: One of the striking posters created by the World Health Organization for World No Tobacco Day on 31 May 20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94200" y="1079640"/>
            <a:ext cx="389880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9420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MJ Publishing Group Ltd Tob Control 2010;19:175-1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uritius: a BAT executive as she appeared in posters and leaflets encouraging women to go into politic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01680" y="1079640"/>
            <a:ext cx="768204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016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MJ Publishing Group Ltd Tob Control 2010;19:175-1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nrad Jamrosik as Odds-on Kon the bookmaker, demonstrating the relative risks of smok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68400" y="1079640"/>
            <a:ext cx="634680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684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MJ Publishing Group Ltd Tob Control 2010;19:175-1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