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mage of promotional items posted on the ‘Lucky Strike Cigarettes’ page by BAT employee Kristof Desmed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hoto of Lucky Strike brand ambassador as posted to the ‘LUCKY STRIKE FUN’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creen capture image of how a list of individual people profiles appear when conducting a subject key word search, in this case the search term ‘British American Tobacco Australia’ was entered on 9 July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creen capture images of an open group for Lucky Strike cigarettes on 9 July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creen capture of the first step in creating a Facebook page accessed 9 July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LivingSocial application showing the first three results for the ‘top 5 cigarette’ category (accessed 15 June 2009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creen capture image of the British American Tobacco network on 9 July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hoto of Kent promotional items posted by a BAT employee on the ‘Kent Cigarettes’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creen capture image of the ‘Lucky Strike Cigarettes’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ublic profile image of Belgium BAT employee Kristof Desmed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itish American Tobacco on Facebook: undermining article 13 of the global World Health Organization Framework Convention on Tobacco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Becky Freeman, and Simon Chap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ob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9(3):e1-e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y 25,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0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mage of promotional items posted on the ‘Lucky Strike Cigarettes’ page by BAT employee Kristof Desmed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96960" y="1079640"/>
            <a:ext cx="6892920" cy="5394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9696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cky Freeman, and Simon Chapman Tob Control 2010;19:e1-e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0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to of Lucky Strike brand ambassador as posted to the ‘LUCKY STRIKE FUN’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34960" y="1079640"/>
            <a:ext cx="7215480" cy="5394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3496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cky Freeman, and Simon Chapman Tob Control 2010;19:e1-e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0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reen capture image of how a list of individual people profiles appear when conducting a subject key word search, in this case the search term ‘British American Tobacco Australia’ was entered on 9 July 200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9800" y="2570040"/>
            <a:ext cx="8604360" cy="241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cky Freeman, and Simon Chapman Tob Control 2010;19:e1-e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0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reen capture images of an open group for Lucky Strike cigarettes on 9 July 200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9800" y="1195560"/>
            <a:ext cx="8604360" cy="5162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cky Freeman, and Simon Chapman Tob Control 2010;19:e1-e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0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reen capture of the first step in creating a Facebook page accessed 9 July 200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51080" y="1079640"/>
            <a:ext cx="738504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5108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cky Freeman, and Simon Chapman Tob Control 2010;19:e1-e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0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vingSocial application showing the first three results for the ‘top 5 cigarette’ category (accessed 15 June 200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093760" y="1079640"/>
            <a:ext cx="589608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09376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cky Freeman, and Simon Chapman Tob Control 2010;19:e1-e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0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reen capture image of the British American Tobacco network on 9 July 200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39800" y="1522440"/>
            <a:ext cx="8604360" cy="4506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cky Freeman, and Simon Chapman Tob Control 2010;19:e1-e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0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to of Kent promotional items posted by a BAT employee on the ‘Kent Cigarettes’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39800" y="1255680"/>
            <a:ext cx="8604360" cy="5043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cky Freeman, and Simon Chapman Tob Control 2010;19:e1-e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0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reen capture image of the ‘Lucky Strike Cigarettes’ p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52360" y="1079640"/>
            <a:ext cx="7782120" cy="5394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5236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cky Freeman, and Simon Chapman Tob Control 2010;19:e1-e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0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blic profile image of Belgium BAT employee Kristof Desmed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39800" y="1225440"/>
            <a:ext cx="8604360" cy="5100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cky Freeman, and Simon Chapman Tob Control 2010;19:e1-e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0 by BMJ Publishing Group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